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CC3B-728C-4F8E-8152-C76FBBDBA36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F061-6864-492C-907C-78612C43899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8D9-E9A8-4FA5-BBBD-5F757E0B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83DA-3370-4B41-8453-D25755C2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814-C6BD-44F3-8AA0-275E4D95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422-E410-44EB-B9A6-0998E703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CD5C-973E-4D71-8F0C-BE3A480A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DB01-8971-4202-9E89-49E6FE1E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7E6E-824A-43BA-8F01-1D2D1FFC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C423-9860-4D44-B80F-B84D48A3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E17-C331-49D6-AD84-4519B49F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C62E-29DD-470A-A8C4-6B114A7E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5364-EA15-4D55-9CF1-C118477E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E5A7-C818-49CD-B317-7588DABF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E35D-F21D-436A-8BE7-60B6A7571D7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2276640"/>
            <a:ext cx="80024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ugg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ind out something that has happened to each of the members of the Mentor Group (including Mentor Leader) in the last four w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o you know the new people in your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539640" y="90792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Kahootz Cartoon"/>
              </a:rPr>
              <a:t>Mentor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Kahootz Cartoon"/>
              </a:rPr>
              <a:t>What new things have I discover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07552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bout my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bout my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bout a particular topic that interested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Kahootz Cartoon"/>
              </a:rPr>
              <a:t>What am I really 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Kahootz Cartoon"/>
              </a:rPr>
              <a:t>proud 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9152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ow have I challenged myself this semester? This could include Extension tasks, the Maths Competition, Problem solving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ow can I challenge mysel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Kahootz Cartoon"/>
              </a:rPr>
              <a:t>How have I shown Respect in our Learning Cent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iv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ink about how you might show evidence for your clai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Kahootz Cartoon"/>
              </a:rPr>
              <a:t>How have I contributed to Gisborne Secondary Colle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Kahootz Cartoon"/>
              </a:rPr>
              <a:t>Overall Learning Goals for this y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 made these goals because ……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 didn’t achieve these goals because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did I do/am I doing to achieve my go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You should be able to show the goal setting sheets that you have  in your project book or on your net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Kahootz Cartoon"/>
              </a:rPr>
              <a:t>Where have I shown improvement in my learning this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2565360"/>
            <a:ext cx="77868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oose any area in which you have impro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is might mean that you show your Maths test and also the repeat test to show how much you improved. Or maybe a draft of a project and the final copy. Your draft should show evidence of your proof reading and use of spell ch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IDPlans showing your on-demand data and go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Kahootz Cartoon"/>
              </a:rPr>
              <a:t>MID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84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se are important evidence on your netbooks as they are showing your progression and go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You will have both English and Maths results from year 7 and 8 to chart.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Kahootz Cartoon"/>
              </a:rPr>
              <a:t>Quality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You could show a piece of work which you believe demonstrates Quality learning and speak about why you think your work represents Quality learning.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ke sure that you talk about you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Kahootz Cartoon"/>
              </a:rPr>
              <a:t>Thinking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gg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and How have we used Lotus diagrams this y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and How have we used concept maps this y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and How have we used Venn diagrams this y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ave you used any other thinking tools – How and Why did you use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120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ver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were they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gain examples could be flagged in your 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Kahootz Cartoon"/>
              </a:rPr>
              <a:t>Team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flect on your contribution to Team work this semes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evidence do you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en making up a team what are some of the different ways that you have used to form the groups? What are the advantages and disadvantages of work with your frie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Kahootz Cartoon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xplain how you would go about researching a topic on the Intern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ow do you take notes from the websites you fi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ow do you decide if the web sites are accurate and reli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how examples of where you have accurately referenced a web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Kahootz Cartoon"/>
              </a:rPr>
              <a:t>Reflection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types of feedback have you received this semester? eg; verbal, written, mark, rubric; (you might have some examples to sh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ich forms of feedback do you find the most useful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ow have you used feedback from your peers or teachers to improve your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how ex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22:28:29Z</dcterms:created>
  <dc:creator>DE&amp;T User</dc:creator>
  <dc:description/>
  <dc:language>en-US</dc:language>
  <cp:lastModifiedBy>Christine Tate</cp:lastModifiedBy>
  <dcterms:modified xsi:type="dcterms:W3CDTF">2015-03-15T21:01:43Z</dcterms:modified>
  <cp:revision>12</cp:revision>
  <dc:subject/>
  <dc:title>Slide 1</dc:title>
</cp:coreProperties>
</file>